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959F-7720-4777-BB30-5F97000E5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C37-5118-4306-9D05-25ED7C4DC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302-10E8-4F26-8CCC-C334B1DC57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314-99EC-4753-931D-CF89668DE0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7D78-03F3-4E6F-87F9-076295FAC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07AC-757D-4565-A38C-728A7C1FD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DCE-B1A4-45C5-9DD3-DF665F7F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EAE-DC65-4FCC-9FCF-66A5D983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9C1-0A68-45AA-A92D-0FFBB57A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95B-D71B-4C5B-8210-7E30C2E9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25B1-8511-48C7-B7C0-33C167F8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F728-EE2B-4A24-AC50-AA82610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6E6C-FB87-4E47-BEEB-6C35D9A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6BFD-5BB2-4043-BFB7-F61304F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D223-3C08-4E13-B16E-19B8CC5C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121D-F0E9-4E0B-AD5C-87D996E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5E44-6B7C-4652-9FBB-AFA6A84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270-F7A1-4C95-A260-8BB98FA1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1A7F-41C0-4A14-B308-A4CA4B4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BA2E-7952-4C0C-A926-9F311EF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851E-E57E-4C84-AF8F-2DB996C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E18A-4611-4210-A869-64B8E128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161-F566-44A3-BFF5-E7D8FF65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995-DE09-4924-96FF-E5EF827B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ADF-288A-4492-B34E-95C48267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FF4-E08F-4113-BE11-952774E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70F-B48E-475E-A9E7-AC609C2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D16-5680-4E71-B175-C17CF4A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CC7-A75E-4B4B-817D-76F5A80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E8E-5A3C-493C-94A6-B7C30FD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3C12-BCC8-4C79-94E1-2156F276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2FA-2F66-47E6-9105-55DF5A897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SUPREME COU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he current chief Justice of the Supreme Cour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327480" y="3276720"/>
            <a:ext cx="248760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853920"/>
            <a:ext cx="9144000" cy="26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How many Supreme Court Justices are ther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95480" y="3048120"/>
            <a:ext cx="305280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ich Article of the Constitution created the Judicial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552760" y="32767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is the PRIMARY function of the Supreme Cour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4023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types of jurisdiction does the Supreme Court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3124080" y="3505320"/>
            <a:ext cx="2613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4T12:57:11Z</dcterms:modified>
  <cp:revision>135</cp:revision>
  <dc:subject/>
  <dc:title>D/O: TO EXPLAIN AND IDENTIFY PROBLEMS OF ECONOMICS</dc:title>
</cp:coreProperties>
</file>